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carbrake.wav" ContentType="audio/x-wav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CED5-E9C8-470D-B3FC-70EDB86E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DAF4-2966-4E0C-AF87-1B416139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D88-7DCC-4B77-B639-210512A1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7A72-B412-4DBC-8924-5187A193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8D5-EF97-4134-8E17-C7CCE00B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A5D-E73F-4B79-A087-01C4EBFE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CAB2-7D87-489E-8716-2E55DCAC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15B9-62B9-4C36-839E-A8EDC88D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87F-4E7B-47D6-AB47-A2AD5F4C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61E-B346-4973-962D-339B6919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9DE7-66E8-44D0-B260-6747CEA0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630B-DE27-4958-A0CB-24C24B2E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1C8C-F53B-4ABF-B0DB-CBA8A2267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amu.edu/ccbn/dewitt/images/santanna2.jpg&amp;imgrefurl=http://www.tamu.edu/ccbn/dewitt/viceroys2.htm&amp;h=505&amp;w=409&amp;sz=28&amp;tbnid=K8rkz4xCLD0J:&amp;tbnh=127&amp;tbnw=103&amp;start=3&amp;prev=/images%3Fq%3DAntonio%2Blopez%2Bde%2Bsanta%2Banna%26hl%3Den%26lr%3D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davisandjones.com/djshow/archives/alamo/alamosm.jpg&amp;imgrefurl=http://www.davisandjones.com/djshow/archives/alamo/alamo2.html&amp;h=342&amp;w=360&amp;sz=74&amp;tbnid=IZQ4bpjLOo4J:&amp;tbnh=111&amp;tbnw=116&amp;start=2&amp;prev=/images%3Fq%3Dalamo%26hl%3Den%26lr%3D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omeofheroes.com/tribute/upload/William_B_Travis.png&amp;imgrefurl=http://www.homeofheroes.com/myhero/LT_Col_William_Barret_Travis.html&amp;h=300&amp;w=225&amp;sz=47&amp;tbnid=8hiD5jHPITsJ:&amp;tbnh=110&amp;tbnw=83&amp;start=18&amp;prev=/images%3Fq%3Dwilliam%2Btravis%2Balamo%26hl%3Den%26lr%3D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lib.utexas.edu/photodraw/portraits/dcrockett.jpg&amp;imgrefurl=http://www.lib.utexas.edu/photodraw/portraits/&amp;h=608&amp;w=504&amp;sz=65&amp;tbnid=db8Ds1lpbtgJ:&amp;tbnh=132&amp;tbnw=110&amp;start=5&amp;prev=/images%3Fq%3Ddavid%2Bcrockett%2B1836%26hl%3Den%26lr%3D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www.america-dreamz.com/texas/paysages/photos/bowie.jpg&amp;imgrefurl=http://www.america-dreamz.com/texas/paysages/alamo_village.php&amp;h=240&amp;w=193&amp;sz=17&amp;tbnid=l4am3LXT0w0J:&amp;tbnh=103&amp;tbnw=83&amp;start=9&amp;prev=/images%3Fq%3Djim%2Bbowie%2Balamo%26hl%3Den%26lr%3D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chm.org/wrr/war/pnl4cw-15.jpg&amp;imgrefurl=http://www.bchm.org/wrr/war/p4c.html&amp;h=376&amp;w=640&amp;sz=55&amp;tbnid=aEtZv19XMeAJ:&amp;tbnh=79&amp;tbnw=134&amp;start=12&amp;prev=/images%3Fq%3Dmanifest%2Bdestiny%26hl%3Den%26lr%3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images.google.com/imgres?imgurl=http://xroads.virginia.edu/~CAP/smithson/polk.jpg&amp;imgrefurl=http://xroads.virginia.edu/~CAP/smithson/polk.html&amp;h=337&amp;w=288&amp;sz=35&amp;tbnid=Xcj2xD7LcG8J:&amp;tbnh=114&amp;tbnw=98&amp;start=1&amp;prev=/images%3Fq%3Djames%2Bk%2Bpolk%26hl%3Den%26lr%3D%26sa%3DN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rmy.mil/cmh-pg/books/cg%26csa/Scott-W.JPG&amp;imgrefurl=http://www.army.mil/cmh-pg/books/cg%26csa/Scott-W.htm&amp;h=1485&amp;w=1104&amp;sz=177&amp;tbnid=RSvPqHjSMLYJ:&amp;tbnh=149&amp;tbnw=111&amp;start=13&amp;prev=/images%3Fq%3Dwinfield%2Bscott%26hl%3Den%26lr%3D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304920"/>
            <a:ext cx="5515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nifest Destin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818800" y="1600200"/>
            <a:ext cx="28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L. O’Sulli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ward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2743200"/>
            <a:ext cx="1981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exa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808280" y="3699000"/>
            <a:ext cx="53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xico gained independence from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ed to lessen influence of 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omed U.S. citizens into terr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res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3040" y="5292720"/>
            <a:ext cx="4524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oses &amp; Stephen Austi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81360" y="5791320"/>
            <a:ext cx="710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ruited many sett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ly protestant cotton farmers (problem w/ Mexico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943600" y="1752480"/>
            <a:ext cx="26668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09480" y="304920"/>
            <a:ext cx="5867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eaty of Guadalupe Hidalgo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1803600" y="1108080"/>
            <a:ext cx="606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the Mexican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xican Cession of American South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5 Million for land + pay all claims of sett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2666880"/>
            <a:ext cx="4667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adsden Purchas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1976400" y="3505320"/>
            <a:ext cx="51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53 purchase of land from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 Million for land south of Gila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1181160" y="213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4495680"/>
            <a:ext cx="3276360" cy="2063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000160" y="226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76920" y="4495680"/>
            <a:ext cx="304776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352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Texas Revolutio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1883880" y="1488960"/>
            <a:ext cx="478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immigrants moving into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without per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000 U.S. settlers by 18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43000" y="2819520"/>
            <a:ext cx="541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ntonio Lopez de Santa Anna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37960" y="3317760"/>
            <a:ext cx="375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ed President of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dictatori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hen Austin jailed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ans Revolt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2362320"/>
            <a:ext cx="148428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371600" y="5029200"/>
            <a:ext cx="1571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amo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2192760" y="5832360"/>
            <a:ext cx="284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 Ant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nish Mission/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4495680"/>
            <a:ext cx="22096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04920" y="228600"/>
            <a:ext cx="3076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Still Alamo)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1668240" y="990720"/>
            <a:ext cx="578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Mexican force arrives to retai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9 Texans defend Alamo against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272412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William Travi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Jim Bowi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avie Crocket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1752480"/>
            <a:ext cx="1324080" cy="1752840"/>
          </a:xfrm>
          <a:prstGeom prst="rect">
            <a:avLst/>
          </a:prstGeom>
          <a:ln w="0">
            <a:noFill/>
          </a:ln>
        </p:spPr>
      </p:pic>
      <p:pic>
        <p:nvPicPr>
          <p:cNvPr id="60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8880" y="1752480"/>
            <a:ext cx="1460520" cy="1752840"/>
          </a:xfrm>
          <a:prstGeom prst="rect">
            <a:avLst/>
          </a:prstGeom>
          <a:ln w="0">
            <a:noFill/>
          </a:ln>
        </p:spPr>
      </p:pic>
      <p:pic>
        <p:nvPicPr>
          <p:cNvPr id="61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10080" y="1752480"/>
            <a:ext cx="1413000" cy="1752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02240" y="3733920"/>
            <a:ext cx="437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6, 1836 – Mexicans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defender k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 Mexicans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520" y="5105520"/>
            <a:ext cx="1904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oliad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1671480" y="6019920"/>
            <a:ext cx="62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400 Texans surrendered &amp; were then execute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0880" y="457200"/>
            <a:ext cx="2971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an Jacinto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95280" y="1447920"/>
            <a:ext cx="244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am Housto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12840" y="2251080"/>
            <a:ext cx="632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 April 18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0 Texans attack Santa Anna’s Ar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le lasts only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600 Mexicans k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E ALAMO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ta Anna captured &amp; forced to sign Texa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5029200"/>
            <a:ext cx="5429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nexation of Texas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905120" y="380880"/>
            <a:ext cx="5333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Republic of Texa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/>
          <p:nvPr/>
        </p:nvSpPr>
        <p:spPr>
          <a:xfrm>
            <a:off x="1136520" y="1295280"/>
            <a:ext cx="620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 Houston elected President of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36-1845 – Lone Star Re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thern opposition to annex another slav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as attempts to increas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371600" y="5334120"/>
            <a:ext cx="2190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Juan Segui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680" y="320040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as has its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3400" y="3733920"/>
            <a:ext cx="529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discrimination again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j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de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with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4343400"/>
            <a:ext cx="38862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057400" y="304920"/>
            <a:ext cx="4876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Election of 1844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523880"/>
            <a:ext cx="228600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Henry Clay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57080" y="2251080"/>
            <a:ext cx="501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g, Kentucky (Great Compromis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not mention anne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3200400"/>
            <a:ext cx="260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James K. Polk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11160" y="3851280"/>
            <a:ext cx="46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t, Tennessee (Dark Hor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vored expansion/anne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371600" y="5334120"/>
            <a:ext cx="497196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Polk elected President 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424400" y="2870280"/>
            <a:ext cx="360" cy="457200"/>
            <a:chOff x="4424400" y="2870280"/>
            <a:chExt cx="360" cy="457200"/>
          </a:xfrm>
        </p:grpSpPr>
        <p:sp>
          <p:nvSpPr>
            <p:cNvPr id="82" name=""/>
            <p:cNvSpPr/>
            <p:nvPr/>
          </p:nvSpPr>
          <p:spPr>
            <a:xfrm>
              <a:off x="4424400" y="2870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24400" y="287028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424400" y="2870280"/>
            <a:ext cx="360" cy="457200"/>
            <a:chOff x="4424400" y="2870280"/>
            <a:chExt cx="360" cy="457200"/>
          </a:xfrm>
        </p:grpSpPr>
        <p:sp>
          <p:nvSpPr>
            <p:cNvPr id="85" name=""/>
            <p:cNvSpPr/>
            <p:nvPr/>
          </p:nvSpPr>
          <p:spPr>
            <a:xfrm>
              <a:off x="4424400" y="2870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24400" y="287028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424400" y="2870280"/>
            <a:ext cx="360" cy="457200"/>
            <a:chOff x="4424400" y="2870280"/>
            <a:chExt cx="360" cy="457200"/>
          </a:xfrm>
        </p:grpSpPr>
        <p:sp>
          <p:nvSpPr>
            <p:cNvPr id="88" name=""/>
            <p:cNvSpPr/>
            <p:nvPr/>
          </p:nvSpPr>
          <p:spPr>
            <a:xfrm>
              <a:off x="4424400" y="2870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24400" y="287028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424400" y="2870280"/>
            <a:ext cx="360" cy="457200"/>
            <a:chOff x="4424400" y="2870280"/>
            <a:chExt cx="360" cy="457200"/>
          </a:xfrm>
        </p:grpSpPr>
        <p:sp>
          <p:nvSpPr>
            <p:cNvPr id="91" name=""/>
            <p:cNvSpPr/>
            <p:nvPr/>
          </p:nvSpPr>
          <p:spPr>
            <a:xfrm>
              <a:off x="4424400" y="2870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24400" y="287028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" name="clay_pic2" descr=""/>
          <p:cNvPicPr/>
          <p:nvPr/>
        </p:nvPicPr>
        <p:blipFill>
          <a:blip r:embed="rId1"/>
          <a:stretch/>
        </p:blipFill>
        <p:spPr>
          <a:xfrm>
            <a:off x="7315200" y="114300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94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15200" y="3429000"/>
            <a:ext cx="1506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33720" y="228600"/>
            <a:ext cx="4495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Mexican War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1219320"/>
            <a:ext cx="1971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auses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1442880" y="1981080"/>
            <a:ext cx="72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 wants to annex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xico still believes Texas is their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45 Texas admitt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der dispute continues (Rio Grande or Nueces Riv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43000" y="365760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Zachary Taylo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0000" y="36576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ent to disputed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3000" y="4267080"/>
            <a:ext cx="2095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John Slidell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04160" y="4308480"/>
            <a:ext cx="545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 to Mexic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settle dispute &amp; get more lan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 ch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37240" y="5442120"/>
            <a:ext cx="67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.S. picks a figh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ylor moves deeper into territory &amp; is atta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xico … shed American blood on American soi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37600" y="2819520"/>
            <a:ext cx="659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raham Lincoln challenges President Po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erick Douglass opposes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Northerners &amp; abolitionists oppose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. Polk’s Wa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4648320"/>
            <a:ext cx="4971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Fighting Begin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2133720"/>
            <a:ext cx="541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position to the Wa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228600"/>
            <a:ext cx="52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Bear Flag Revol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1350360" y="803160"/>
            <a:ext cx="47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C. Frem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secretly inv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ifornia independent from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5486400"/>
            <a:ext cx="287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tephen Kearny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69800" y="5985000"/>
            <a:ext cx="40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ed Santa 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control over New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62120" y="30492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Zachary Taylo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66560" y="762120"/>
            <a:ext cx="751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d Rough &amp; Read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ttle of Palo 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s into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ttle of Buena V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00 U.S. vs. 15,000 Mex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ta Anna withdraws… many casualties on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3124080"/>
            <a:ext cx="2600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Winfield Scot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2200" y="3699000"/>
            <a:ext cx="497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d Fuss &amp; Feathe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hibious assault into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ttle of Veracr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s further into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ts off communic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ttle of Cerro Gor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ttle of Puebla de Zarag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ttle of Chapultepec (Mexico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3124080"/>
            <a:ext cx="1873080" cy="2514600"/>
          </a:xfrm>
          <a:prstGeom prst="rect">
            <a:avLst/>
          </a:prstGeom>
          <a:ln w="0">
            <a:noFill/>
          </a:ln>
        </p:spPr>
      </p:pic>
      <p:pic>
        <p:nvPicPr>
          <p:cNvPr id="115" name="images" descr=""/>
          <p:cNvPicPr/>
          <p:nvPr/>
        </p:nvPicPr>
        <p:blipFill>
          <a:blip r:embed="rId3"/>
          <a:stretch/>
        </p:blipFill>
        <p:spPr>
          <a:xfrm>
            <a:off x="6705720" y="228600"/>
            <a:ext cx="1447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20:17:58Z</dcterms:created>
  <dc:creator>nalbert</dc:creator>
  <dc:description/>
  <dc:language>en-US</dc:language>
  <cp:lastModifiedBy>nalbert</cp:lastModifiedBy>
  <dcterms:modified xsi:type="dcterms:W3CDTF">2007-12-17T20:16:36Z</dcterms:modified>
  <cp:revision>23</cp:revision>
  <dc:subject/>
  <dc:title>PowerPoint Presentation</dc:title>
</cp:coreProperties>
</file>